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79BB6-696D-427E-9F21-8B3E80C07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F034-0E8E-4BB9-888B-00922C49A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3795-E1B0-4570-9192-00FC56368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93B8-9360-4D42-83BD-4AEBB3B96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A86D9-9F31-4EC9-AFCE-4E761F8465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FA82D-2D72-46F3-BBF2-0BC85361AB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0B478-8C5E-486D-A509-E05771F565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FF047-5FBF-4E08-B216-F6ED66816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C92BF-68FD-4ECE-980B-1EA884B342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1B171-685E-4755-A2B2-69DCC5F052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A36F0-185D-461B-9FB4-5BDA5C29D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EDB5-02FD-4742-B035-CBF2349BB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10A7-4268-4EC1-9D46-05FE0D17C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8F69A3-B3DB-436C-B797-AF64C24CF6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D448F-CDFA-468D-BBD2-306560D1F0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BD12-EA45-4A5D-8115-96CC6F3E6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DCE10-161F-4B2E-8926-0CD72DB6B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5BB0-E12A-478C-9BBA-3FF2F453F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DE6A-1986-460E-8271-F2E288601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B226-E742-48B6-BF2F-CD5AE2953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9C45-0847-44E3-BFEB-8A315FA2C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2750-A44B-46B4-BED3-B41FE3797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9D45-2DFC-4C7B-9895-A3485E9B6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70BD-EE7B-43A2-A2EB-9932D82BB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195E536-3ED4-4957-9E11-B4586AF1E03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DA1D200-E7FB-4097-9453-FC33080D90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B423D6-B757-4C22-BCAF-BF7D74AB57D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934AA76-9995-47FA-B331-04614E731B5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andling Collinear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regression (Tibshirani, 1996): minimised sum of regression coefficients so that sum tend to and reach zer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 regression (Hoerl and Kennard, 1970) minimises the squares of the regression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astic net regression (Zou and Hastie, 2005) is a hybrid of LASSO ans Ridg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net in R parameter alpha=1 (LASSO), alpha=0 (Ridge) otherwise Elastic n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indi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ssess regression models using fit indices such 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Sum (observed – predicted)^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E = Sum Abs(observed – predic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PE = Sum( [observed – predicted]/predicted) * 1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-squared = 1 - MSE / Total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Kovac et al (2024)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idge, LASSO, and Elastic Net regression gave very similar model fits on a linear regression of emotional competency (EC), Distress tolerance, cognitive flexibility, alexithymia and childhood trauma (TRAU) to predict internal sha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42920" y="3314880"/>
          <a:ext cx="6481800" cy="2989080"/>
        </p:xfrm>
        <a:graphic>
          <a:graphicData uri="http://schemas.openxmlformats.org/drawingml/2006/table">
            <a:tbl>
              <a:tblPr/>
              <a:tblGrid>
                <a:gridCol w="1838520"/>
                <a:gridCol w="1403280"/>
                <a:gridCol w="1619280"/>
                <a:gridCol w="1620720"/>
              </a:tblGrid>
              <a:tr h="76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Perf. metric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Ridg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LASSO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cc"/>
                          </a:solidFill>
                          <a:latin typeface="Verdana"/>
                        </a:rPr>
                        <a:t>Elastic Net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S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4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5.8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46.0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5.37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.36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MAPE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.2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.2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R2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39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2.78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a044b"/>
                          </a:solidFill>
                          <a:latin typeface="Verdana"/>
                        </a:rPr>
                        <a:t>72.65</a:t>
                      </a:r>
                      <a:endParaRPr b="0" lang="en-US" sz="18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a044b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4-02-14T16:36:22Z</dcterms:modified>
  <cp:revision>323</cp:revision>
  <dc:subject/>
  <dc:title>REGRESSION ANALYSIS</dc:title>
</cp:coreProperties>
</file>